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650-31D7-40EB-89B3-947D319F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41C7-80B5-45C8-BEF4-55BD089B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59A-7133-4978-AF8A-29F7FB7E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D56-E9C4-4429-8000-14C0B658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FAA-C59E-496B-8681-27F58DB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BB92-0277-4CD2-A6F3-D7420233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927C-2544-4C3D-B2F8-37D2AB2E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EBE-08E5-430A-919D-F2ED088F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60C-E073-4EAA-ADC2-3832599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D70-E977-4426-A3C8-5CFE0E94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984-F91A-4781-AA4D-2FEBC21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603-6CB7-483C-AA47-EB9F534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8C1A-0BAD-46FE-B818-DB7B94244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743.WAV" TargetMode="External"/><Relationship Id="rId2" Type="http://schemas.microsoft.com/office/2007/relationships/media" Target="file:///tmp/home/.config/libreoffice/4/user/gallery/~PP743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487.WAV" TargetMode="External"/><Relationship Id="rId2" Type="http://schemas.microsoft.com/office/2007/relationships/media" Target="file:///tmp/home/.config/libreoffice/4/user/gallery/~PP3487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074.WAV" TargetMode="External"/><Relationship Id="rId2" Type="http://schemas.microsoft.com/office/2007/relationships/media" Target="file:///tmp/home/.config/libreoffice/4/user/gallery/~PP1074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60.WAV" TargetMode="External"/><Relationship Id="rId2" Type="http://schemas.microsoft.com/office/2007/relationships/media" Target="file:///tmp/home/.config/libreoffice/4/user/gallery/~PP2260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Water Safety</a:t>
            </a:r>
            <a:br>
              <a:rPr sz="4400"/>
            </a:b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WHAT TO DO WHEN CAUGHT IN A 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iara Pilli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ior 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340000" y="1052640"/>
            <a:ext cx="4681440" cy="172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32000" y="126828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I’M GOING TO DIE HELP ME!!!!!!! AHHHHHHHHHHHHHHH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57160" y="1844640"/>
            <a:ext cx="1440000" cy="1368360"/>
          </a:xfrm>
          <a:prstGeom prst="ellipse">
            <a:avLst/>
          </a:prstGeom>
          <a:solidFill>
            <a:srgbClr val="e7c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220500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710244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2720" y="220500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7000" y="2708280"/>
            <a:ext cx="57636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995600">
            <a:off x="1331640" y="2707920"/>
            <a:ext cx="325440" cy="216000"/>
          </a:xfrm>
          <a:custGeom>
            <a:avLst/>
            <a:gdLst/>
            <a:ahLst/>
            <a:rect l="l" t="t" r="r" b="b"/>
            <a:pathLst>
              <a:path w="205" h="54">
                <a:moveTo>
                  <a:pt x="0" y="54"/>
                </a:moveTo>
                <a:cubicBezTo>
                  <a:pt x="7" y="35"/>
                  <a:pt x="15" y="16"/>
                  <a:pt x="45" y="8"/>
                </a:cubicBezTo>
                <a:cubicBezTo>
                  <a:pt x="75" y="0"/>
                  <a:pt x="159" y="0"/>
                  <a:pt x="182" y="8"/>
                </a:cubicBezTo>
                <a:cubicBezTo>
                  <a:pt x="205" y="16"/>
                  <a:pt x="193" y="35"/>
                  <a:pt x="182" y="54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189000"/>
            <a:ext cx="8748720" cy="6408720"/>
          </a:xfrm>
          <a:prstGeom prst="ellipse">
            <a:avLst/>
          </a:prstGeom>
          <a:noFill/>
          <a:ln w="270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4000" y="692280"/>
            <a:ext cx="5399280" cy="5041800"/>
          </a:xfrm>
          <a:prstGeom prst="line">
            <a:avLst/>
          </a:prstGeom>
          <a:ln w="270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32000" y="3716280"/>
            <a:ext cx="1440000" cy="1368360"/>
          </a:xfrm>
          <a:prstGeom prst="ellipse">
            <a:avLst/>
          </a:prstGeom>
          <a:solidFill>
            <a:srgbClr val="e7c7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14828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4149720"/>
            <a:ext cx="21564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781160" y="3787920"/>
            <a:ext cx="576360" cy="1152360"/>
          </a:xfrm>
          <a:prstGeom prst="line">
            <a:avLst/>
          </a:prstGeom>
          <a:ln w="41400">
            <a:solidFill>
              <a:srgbClr val="e7c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14960" y="3513240"/>
            <a:ext cx="360360" cy="287280"/>
          </a:xfrm>
          <a:prstGeom prst="ellipse">
            <a:avLst/>
          </a:prstGeom>
          <a:solidFill>
            <a:srgbClr val="e7c7e1"/>
          </a:solidFill>
          <a:ln w="9360">
            <a:solidFill>
              <a:srgbClr val="e7c7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7240" y="4654440"/>
            <a:ext cx="57600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995600">
            <a:off x="3708360" y="4725360"/>
            <a:ext cx="325440" cy="142920"/>
          </a:xfrm>
          <a:custGeom>
            <a:avLst/>
            <a:gdLst/>
            <a:ahLst/>
            <a:rect l="l" t="t" r="r" b="b"/>
            <a:pathLst>
              <a:path w="205" h="54">
                <a:moveTo>
                  <a:pt x="0" y="54"/>
                </a:moveTo>
                <a:cubicBezTo>
                  <a:pt x="7" y="35"/>
                  <a:pt x="15" y="16"/>
                  <a:pt x="45" y="8"/>
                </a:cubicBezTo>
                <a:cubicBezTo>
                  <a:pt x="75" y="0"/>
                  <a:pt x="159" y="0"/>
                  <a:pt x="182" y="8"/>
                </a:cubicBezTo>
                <a:cubicBezTo>
                  <a:pt x="205" y="16"/>
                  <a:pt x="193" y="35"/>
                  <a:pt x="182" y="54"/>
                </a:cubicBezTo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2349360"/>
            <a:ext cx="194328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248292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565520" y="3754080"/>
            <a:ext cx="64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573880" y="3021120"/>
            <a:ext cx="5760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4653000"/>
            <a:ext cx="1114560" cy="1584360"/>
          </a:xfrm>
          <a:prstGeom prst="line">
            <a:avLst/>
          </a:prstGeom>
          <a:ln w="165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059280" y="260280"/>
            <a:ext cx="5508360" cy="6021360"/>
          </a:xfrm>
          <a:prstGeom prst="line">
            <a:avLst/>
          </a:prstGeom>
          <a:ln w="165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2" dur="5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4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5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0" dur="5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8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19280" y="1844640"/>
            <a:ext cx="77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01:15Z</dcterms:created>
  <dc:creator>Ciara</dc:creator>
  <dc:description/>
  <dc:language>en-US</dc:language>
  <cp:lastModifiedBy>Ciara</cp:lastModifiedBy>
  <dcterms:modified xsi:type="dcterms:W3CDTF">2009-02-16T06:40:19Z</dcterms:modified>
  <cp:revision>5</cp:revision>
  <dc:subject/>
  <dc:title>Water Safety WHAT TO DO WHEN CAUGHT IN A RIP</dc:title>
</cp:coreProperties>
</file>